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839-85C4-4CBA-9929-85790B1C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F9C-9E62-49BC-BFB7-052B1BA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9CB-89C8-4CFE-AF43-A734F583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F67-F5B9-457E-A538-03CE52AA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6541-63E3-4B94-9EC2-A9BD0D47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5A19-D7AB-4422-A854-CBDC2F87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400-A63E-425F-B7A3-0E835B9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40AE-0354-4328-9F98-CE9AF90B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5598-93CE-4F3E-9942-0D915718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487-891D-43C9-BE82-B4B2B80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FCEB-5965-4D7D-B82C-8EBD22B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EF5-6BD7-49F7-A919-03CA6247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154D-72BA-4D83-9319-58042A8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F635-61FB-4685-976D-E1A7EE3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15D-7AE1-42B1-A607-3678AD0D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94B7-973E-42C1-B9C8-906B0B8E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E592-2243-4470-B744-7EB797FE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4BB-EF36-45CB-BF56-2BAFBB3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5E7-B19E-4583-896B-65BBE97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1FB-7857-461A-88F8-765D3990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6A2-BD48-44D4-805A-2072ECF3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297-C4B6-4A94-89CC-60E316E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C6E-681B-499F-BF4E-75A66C72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718-2615-4DC9-BAEA-FA22BA0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198-461C-4884-ADBC-23617C0F0D6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37B-6123-4C9F-9BCD-9DDB9A947D3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7d47d"/>
                </a:solidFill>
                <a:latin typeface="BlackChancery"/>
              </a:rPr>
              <a:t>Genetics</a:t>
            </a:r>
            <a:endParaRPr b="0" lang="en-US" sz="11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Garamond"/>
              </a:rPr>
              <a:t>Chapter 1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333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Mendel’s Two Conclusion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47d"/>
                </a:solidFill>
                <a:latin typeface="Garamond"/>
              </a:rPr>
              <a:t>Biological inheritance is determined by factors that are passed from one generation to the nex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Genes</a:t>
            </a:r>
            <a:r>
              <a:rPr b="0" lang="en-US" sz="36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 chemical factors that determine trait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Genes have two contrasting forms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the different forms of the gene are called </a:t>
            </a: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allele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Principle of Dominance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some alleles are dominant and 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others are recessiv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Dominant allele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if present will express itself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Recessive allele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will only express itself if dominant allele is not presen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676520"/>
            <a:ext cx="738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Genetics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scientific study of heredit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Every living thing has a set of characteristics inherited from its parent or parent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767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Gregor Mende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735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1822 – 18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Austrain mon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In charge of the botanical garden at the monest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Studied science at the University of Vien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father of modern genetics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5257800" y="304920"/>
            <a:ext cx="226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Garamond"/>
              </a:rPr>
              <a:t>Worked with garden pe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Mendel first worked with </a:t>
            </a:r>
            <a:r>
              <a:rPr b="0" lang="en-US" sz="2800" spc="-1" strike="noStrike" u="sng">
                <a:solidFill>
                  <a:srgbClr val="f7d47d"/>
                </a:solidFill>
                <a:uFillTx/>
                <a:latin typeface="Garamond"/>
              </a:rPr>
              <a:t>true-breeding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 plants that self-pollinated to produce plants that looked exactly like th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In order to control breeding between the pea plants, Mendel cut off the male parts of the flow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He then used a paintbrush to </a:t>
            </a:r>
            <a:r>
              <a:rPr b="0" lang="en-US" sz="2800" spc="-1" strike="noStrike" u="sng">
                <a:solidFill>
                  <a:srgbClr val="f7d47d"/>
                </a:solidFill>
                <a:uFillTx/>
                <a:latin typeface="Garamond"/>
              </a:rPr>
              <a:t>cross pollinate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 the pea plants to see what kinds of offspring would be produ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05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Mendel’s Trait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Mendel studied 7 different contrasting traits of the pea plan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Trait</a:t>
            </a:r>
            <a:r>
              <a:rPr b="0" lang="en-US" sz="36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 specific characteristic that varies from one individual to anoth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88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0:26:16Z</dcterms:created>
  <dc:creator> Kari Widdoes</dc:creator>
  <dc:description/>
  <dc:language>en-US</dc:language>
  <cp:lastModifiedBy>NHS</cp:lastModifiedBy>
  <dcterms:modified xsi:type="dcterms:W3CDTF">2007-02-14T14:28:01Z</dcterms:modified>
  <cp:revision>4</cp:revision>
  <dc:subject/>
  <dc:title>Genetics</dc:title>
</cp:coreProperties>
</file>